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10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948-B3A6-4C5F-BDAE-F19E971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FD7-7927-44F8-8E2D-E4C6A744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BEC-CA9F-4BF5-912E-2BB4FBF9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891-B193-41F0-8FC8-325E607D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8DB-F636-4C1B-BC2C-46B6C88E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1C4A-A6F9-4E5C-A069-C61A6A0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A52C-1421-417A-8E91-3643DA7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F72-848B-4C32-9976-35150CA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A9D-7415-4620-B68D-0C1E6E3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621E-D0A1-490D-8754-FDD1F386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8495-EC77-4B0D-B46B-C19D415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73A-F34B-4BE4-AC57-827EF8D8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3679-F16F-4E15-8545-4286033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2DD-0A2B-4F83-BCD5-D2CCEA8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D08C-ECCD-4390-86C2-42898AE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27C1-AE40-4F00-A39B-2D8BC25A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163-07CE-4423-A9B1-D8CF0E58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1C2-447A-4089-BE2A-61B3A135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085-D432-4F7E-8CA1-7462727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5BD-2C6A-43DC-8EB5-F246E78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89C-3C07-4DE6-96A5-285C4E26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8D2-B75E-403E-8D90-C6780A6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8EE-AFC6-41A1-BFC2-06E56F9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07F-4DE8-4B39-901A-5FA487B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B26B-F0D8-4563-825D-26A2EE897B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DCE-D54D-43F9-BC44-EC365F59997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91F9-0342-4F14-A692-D855D310F6E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Системы линейных алгебраических уравнений: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вместность( теорема Кронекера –Каппели), число решений, решение методом Гау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745-6A8C-4CED-9C15-268A324AAC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совмест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исными неизвестными объявить те, номера которых совпадут с номерами базисных столбцов ступенчатого вида матрицы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держащих опорные элементы этой матрицы; остальные неизвестные объявить свободны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свободных неизвестных ра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йти к выполнению следующего шаг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6659640" y="4653000"/>
          <a:ext cx="1944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653000"/>
                    <a:ext cx="1944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E03-C7B4-4D98-BC42-C797399A2F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ступенчатую матрицу, полученную при выполнении шага 1),   к виду Гаус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систему линейных уравнений, соответствующую матрице, построенной на шаге 3),  обозначив свободные неизвест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ь из полученной системы базисные неизвестные через свободные неизвест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, воспользовавшись  или  векторной формой записи (5), или координатной формо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5867280" y="3284640"/>
          <a:ext cx="1513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84640"/>
                    <a:ext cx="1513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2484360" y="5373720"/>
          <a:ext cx="48960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373720"/>
                    <a:ext cx="48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B17-4352-4961-BCDF-8AFEA6C32E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З а м е ч а н и е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Применение метода Гаусса не требует, чтобы матрица системы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квадратной и предварительного вычисления ее определител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174-E189-467A-9B95-CDD42E9116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920" y="1773360"/>
            <a:ext cx="8858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1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Для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916360" y="2349360"/>
          <a:ext cx="27367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27367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108000" y="436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матрицу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 столбец свободных чле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6"/>
          <p:cNvGraphicFramePr/>
          <p:nvPr/>
        </p:nvGraphicFramePr>
        <p:xfrm>
          <a:off x="8521560" y="4286160"/>
          <a:ext cx="34956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1560" y="4286160"/>
                    <a:ext cx="349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37160" y="479628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ать систему в вектор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70880" y="5444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значим столбец неизвестных 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DC98-ED8D-45BA-A3A2-E2621B575C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матрица 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 составляется из числовых коэффициентов, стоящих в системе при неизвестн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3635280" y="1844640"/>
          <a:ext cx="12366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12366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6"/>
          <p:cNvGraphicFramePr/>
          <p:nvPr/>
        </p:nvGraphicFramePr>
        <p:xfrm>
          <a:off x="3132000" y="4365720"/>
          <a:ext cx="28800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365720"/>
                    <a:ext cx="2880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0456-070E-4F7F-9D80-14743634BB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     составляется из свободных членов систем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2195640" y="1773360"/>
          <a:ext cx="360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3780000" y="2276640"/>
          <a:ext cx="1319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1319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539640" y="4237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истему можно переписать в векторной форм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9"/>
          <p:cNvGraphicFramePr/>
          <p:nvPr/>
        </p:nvGraphicFramePr>
        <p:xfrm>
          <a:off x="3780000" y="4653000"/>
          <a:ext cx="1511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4653000"/>
                    <a:ext cx="15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11"/>
          <p:cNvGraphicFramePr/>
          <p:nvPr/>
        </p:nvGraphicFramePr>
        <p:xfrm>
          <a:off x="1979640" y="5229360"/>
          <a:ext cx="1790640" cy="111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229360"/>
                    <a:ext cx="1790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1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3"/>
          <p:cNvGraphicFramePr/>
          <p:nvPr/>
        </p:nvGraphicFramePr>
        <p:xfrm>
          <a:off x="3924360" y="5229360"/>
          <a:ext cx="84456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5229360"/>
                    <a:ext cx="844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5"/>
          <p:cNvGraphicFramePr/>
          <p:nvPr/>
        </p:nvGraphicFramePr>
        <p:xfrm>
          <a:off x="5003640" y="5589720"/>
          <a:ext cx="10796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589720"/>
                    <a:ext cx="1079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7"/>
          <p:cNvSpPr/>
          <p:nvPr/>
        </p:nvSpPr>
        <p:spPr>
          <a:xfrm>
            <a:off x="613080" y="544428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8E4-491C-459A-95CF-C50345478A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2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3348000" y="2276640"/>
          <a:ext cx="24480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76640"/>
                    <a:ext cx="2448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468360" y="393300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042920" y="4437000"/>
          <a:ext cx="1343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437000"/>
                    <a:ext cx="1343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9"/>
          <p:cNvGraphicFramePr/>
          <p:nvPr/>
        </p:nvGraphicFramePr>
        <p:xfrm>
          <a:off x="2916360" y="4508640"/>
          <a:ext cx="431964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4319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D56-ED24-48F9-920F-B49EBAC7B9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м шаг 1) метода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"/>
          <p:cNvGraphicFramePr/>
          <p:nvPr/>
        </p:nvGraphicFramePr>
        <p:xfrm>
          <a:off x="539640" y="2276640"/>
          <a:ext cx="78487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8487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3851280" y="2708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>
            <a:off x="3564000" y="29973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356000" y="270828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3564000" y="350028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7812000" y="314172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 flipH="1">
            <a:off x="7524720" y="34290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12"/>
          <p:cNvGraphicFramePr/>
          <p:nvPr/>
        </p:nvGraphicFramePr>
        <p:xfrm>
          <a:off x="971640" y="3860640"/>
          <a:ext cx="309564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860640"/>
                    <a:ext cx="30956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4"/>
          <p:cNvSpPr/>
          <p:nvPr/>
        </p:nvSpPr>
        <p:spPr>
          <a:xfrm>
            <a:off x="1547640" y="4292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1908000" y="429264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1908000" y="486900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327672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348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348000" y="53006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213440" y="48679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22"/>
          <p:cNvGraphicFramePr/>
          <p:nvPr/>
        </p:nvGraphicFramePr>
        <p:xfrm>
          <a:off x="755640" y="5373720"/>
          <a:ext cx="32400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373720"/>
                    <a:ext cx="32400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1"/>
          <p:cNvGraphicFramePr/>
          <p:nvPr/>
        </p:nvGraphicFramePr>
        <p:xfrm>
          <a:off x="4572000" y="5373720"/>
          <a:ext cx="223200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373720"/>
                    <a:ext cx="2232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23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3992400" y="54439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88720" y="580464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   система несовместн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FD8-E473-431A-BF39-74C94CC127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00000" y="39322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е ш е н и е.   В данном случае име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684360" y="4508640"/>
          <a:ext cx="12366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08640"/>
                    <a:ext cx="12366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9"/>
          <p:cNvGraphicFramePr/>
          <p:nvPr/>
        </p:nvGraphicFramePr>
        <p:xfrm>
          <a:off x="1995480" y="4508640"/>
          <a:ext cx="248292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5480" y="4508640"/>
                    <a:ext cx="24829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11"/>
          <p:cNvGraphicFramePr/>
          <p:nvPr/>
        </p:nvGraphicFramePr>
        <p:xfrm>
          <a:off x="4600440" y="4508640"/>
          <a:ext cx="135108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4508640"/>
                    <a:ext cx="1351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3"/>
          <p:cNvSpPr/>
          <p:nvPr/>
        </p:nvSpPr>
        <p:spPr>
          <a:xfrm>
            <a:off x="6227640" y="5012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свободных член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4"/>
          <p:cNvGraphicFramePr/>
          <p:nvPr/>
        </p:nvGraphicFramePr>
        <p:xfrm>
          <a:off x="2987640" y="2225520"/>
          <a:ext cx="25923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2225520"/>
                    <a:ext cx="25923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F51-BA9B-434B-A989-7AD0FB09DB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324000" y="2014560"/>
          <a:ext cx="85690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14560"/>
                    <a:ext cx="85690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6"/>
          <p:cNvSpPr/>
          <p:nvPr/>
        </p:nvSpPr>
        <p:spPr>
          <a:xfrm>
            <a:off x="305928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716436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924360" y="2492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563640" y="278136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3563640" y="3284640"/>
            <a:ext cx="93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4500720" y="249228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244000" y="299736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884720" y="3284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4"/>
          <p:cNvGraphicFramePr/>
          <p:nvPr/>
        </p:nvGraphicFramePr>
        <p:xfrm>
          <a:off x="395280" y="3811680"/>
          <a:ext cx="8497800" cy="17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811680"/>
                    <a:ext cx="849780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Line 16"/>
          <p:cNvSpPr/>
          <p:nvPr/>
        </p:nvSpPr>
        <p:spPr>
          <a:xfrm>
            <a:off x="2843280" y="400536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3924360" y="4724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427640" y="414972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9"/>
          <p:cNvSpPr/>
          <p:nvPr/>
        </p:nvSpPr>
        <p:spPr>
          <a:xfrm flipH="1">
            <a:off x="3635280" y="472428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3634920" y="4149720"/>
            <a:ext cx="7938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C7E-493D-4573-B124-4F21D2D0A8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О п р е д е л е н и е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истемой линейных алгебраически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ей из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уравнений с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известными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i="1" lang="ru-RU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,…,х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24000" y="3197160"/>
          <a:ext cx="446400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197160"/>
                    <a:ext cx="446400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6"/>
          <p:cNvSpPr/>
          <p:nvPr/>
        </p:nvSpPr>
        <p:spPr>
          <a:xfrm>
            <a:off x="7596720" y="400464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5A4F-1D52-4B68-9B18-A77C26D5B5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324000" y="2349360"/>
          <a:ext cx="655308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65530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6948360" y="2276640"/>
          <a:ext cx="131472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276640"/>
                    <a:ext cx="131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8"/>
          <p:cNvSpPr/>
          <p:nvPr/>
        </p:nvSpPr>
        <p:spPr>
          <a:xfrm>
            <a:off x="248436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579600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10"/>
          <p:cNvGraphicFramePr/>
          <p:nvPr/>
        </p:nvGraphicFramePr>
        <p:xfrm>
          <a:off x="2050920" y="4508640"/>
          <a:ext cx="424836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4508640"/>
                    <a:ext cx="42483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444-24A1-4AF7-89BA-A20170333D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и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332000" y="2781360"/>
          <a:ext cx="611964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61196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BF05-EDC8-4292-A293-62E37515FE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спользуемся методом Гаусса: составим матрицу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, столбец свободных членов        и преобразуем расширенную матрицу            к виду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3564000" y="2565360"/>
          <a:ext cx="30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565360"/>
                    <a:ext cx="30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2124000" y="2852640"/>
          <a:ext cx="86364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852640"/>
                    <a:ext cx="8636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0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9"/>
          <p:cNvGraphicFramePr/>
          <p:nvPr/>
        </p:nvGraphicFramePr>
        <p:xfrm>
          <a:off x="324000" y="3605040"/>
          <a:ext cx="8569080" cy="21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05040"/>
                    <a:ext cx="856908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Line 11"/>
          <p:cNvSpPr/>
          <p:nvPr/>
        </p:nvSpPr>
        <p:spPr>
          <a:xfrm>
            <a:off x="3780000" y="400536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14036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8244000" y="458136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3563640" y="5445000"/>
            <a:ext cx="576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H="1">
            <a:off x="7956720" y="54450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 flipH="1">
            <a:off x="7956360" y="4869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3564000" y="4941720"/>
            <a:ext cx="217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3563640" y="4365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8172360" y="458136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3708360" y="400536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305928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745164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94D-00A2-4612-B211-77F4652C0F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539640" y="1916280"/>
          <a:ext cx="813600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1360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24000" y="4005360"/>
          <a:ext cx="828036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828036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1"/>
          <p:cNvSpPr/>
          <p:nvPr/>
        </p:nvSpPr>
        <p:spPr>
          <a:xfrm flipH="1">
            <a:off x="8028000" y="306864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8028000" y="35733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3492360" y="508464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H="1">
            <a:off x="3276360" y="508464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419640" y="1989000"/>
            <a:ext cx="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7524720" y="1989000"/>
            <a:ext cx="0" cy="172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2843280" y="458136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0"/>
          <p:cNvSpPr/>
          <p:nvPr/>
        </p:nvSpPr>
        <p:spPr>
          <a:xfrm>
            <a:off x="1116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1116000" y="530064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2411280" y="573408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2710-D9D8-4D10-BECF-B816251C73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324000" y="1820880"/>
          <a:ext cx="85690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0880"/>
                    <a:ext cx="85690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Line 6"/>
          <p:cNvSpPr/>
          <p:nvPr/>
        </p:nvSpPr>
        <p:spPr>
          <a:xfrm>
            <a:off x="298764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730872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 flipH="1">
            <a:off x="7956360" y="2205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17236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Object 10"/>
          <p:cNvGraphicFramePr/>
          <p:nvPr/>
        </p:nvGraphicFramePr>
        <p:xfrm>
          <a:off x="324000" y="3860640"/>
          <a:ext cx="475272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47527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Line 12"/>
          <p:cNvSpPr/>
          <p:nvPr/>
        </p:nvSpPr>
        <p:spPr>
          <a:xfrm>
            <a:off x="3995640" y="407664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F27-FF7C-45A8-9995-1FA372AF6B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684360" y="2349360"/>
          <a:ext cx="29034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29034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7"/>
          <p:cNvSpPr/>
          <p:nvPr/>
        </p:nvSpPr>
        <p:spPr>
          <a:xfrm>
            <a:off x="3473280" y="396936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6"/>
          <p:cNvGraphicFramePr/>
          <p:nvPr/>
        </p:nvGraphicFramePr>
        <p:xfrm>
          <a:off x="4284720" y="2924280"/>
          <a:ext cx="460836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24280"/>
                    <a:ext cx="46083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B6DF-D34E-4201-B1A7-A1343B2EC0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n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 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числа. Есл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,….,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то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  одноро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противном случае система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однородной 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З а м е ч а н и е  </a:t>
            </a:r>
            <a:r>
              <a:rPr b="1" i="1" lang="en-US" sz="2400" spc="-1" strike="noStrike" u="sng">
                <a:solidFill>
                  <a:srgbClr val="660000"/>
                </a:solidFill>
                <a:uFillTx/>
                <a:latin typeface="Times New Roman"/>
              </a:rPr>
              <a:t>1</a:t>
            </a: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ожет быть записана в векторной форм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851280" y="4292640"/>
          <a:ext cx="1662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292640"/>
                    <a:ext cx="1662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7812360" y="41493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258-AD35-44EF-899A-144A3962B8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79640" y="1844640"/>
          <a:ext cx="16588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16588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3783240" y="2133000"/>
            <a:ext cx="417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неизвестных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1908000" y="3716280"/>
          <a:ext cx="1800360" cy="17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716280"/>
                    <a:ext cx="180036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9"/>
          <p:cNvSpPr/>
          <p:nvPr/>
        </p:nvSpPr>
        <p:spPr>
          <a:xfrm>
            <a:off x="3711960" y="407628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 свободных членов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FD7C-0D06-4328-BB24-F8D79DC67B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сширенной матриц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матрица, обозначаем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лученная приписыванием к  матрице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справа после вертикальной черты столб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79640" y="1844640"/>
          <a:ext cx="3311640" cy="22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3311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365440" y="2564640"/>
            <a:ext cx="26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 систем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084720" y="4508640"/>
          <a:ext cx="10083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508640"/>
                    <a:ext cx="10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4859280" y="5229360"/>
          <a:ext cx="36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A34-FB30-4B87-B05A-A23172E6B2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76360" y="1989000"/>
          <a:ext cx="388944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9000"/>
                    <a:ext cx="38894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любой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й  век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новка которого в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ет тожд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2421000"/>
            <a:ext cx="0" cy="17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788000" y="2133720"/>
            <a:ext cx="0" cy="18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4427640" y="4941720"/>
          <a:ext cx="380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941720"/>
                    <a:ext cx="380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65F-1B25-4712-96CE-70F25F64E5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она имеет хотя бы одно решение. В противном случае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Т е о р е м а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Кронекера – Капел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вместна тогда и только тогда, когда ранг матрицы системы равен рангу расширенной матрицы, то ест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 если                то система имеет единственное решение; если                 то система имеет бесконечное множество решений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неизвес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635280" y="4365720"/>
          <a:ext cx="24480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365720"/>
                    <a:ext cx="24480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987640" y="5013360"/>
          <a:ext cx="11527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1152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8"/>
          <p:cNvGraphicFramePr/>
          <p:nvPr/>
        </p:nvGraphicFramePr>
        <p:xfrm>
          <a:off x="2916360" y="5373720"/>
          <a:ext cx="122400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373720"/>
                    <a:ext cx="12240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D68-5942-44D5-8C1E-09DA22BDDD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Т е о р е м а 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частное решение линейной  неоднородной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мое числом свободных неизвестных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числяется по форму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льные постоянные числа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тоян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е векторы, являющиеся линейно независимыми решениями соответствующей линейной однородной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763640" y="2276640"/>
          <a:ext cx="453708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45370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7957800" y="2348640"/>
            <a:ext cx="6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(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403280" y="3068640"/>
          <a:ext cx="792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792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1"/>
          <p:cNvGraphicFramePr/>
          <p:nvPr/>
        </p:nvGraphicFramePr>
        <p:xfrm>
          <a:off x="5219640" y="1773360"/>
          <a:ext cx="12240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77336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3"/>
          <p:cNvGraphicFramePr/>
          <p:nvPr/>
        </p:nvGraphicFramePr>
        <p:xfrm>
          <a:off x="7488360" y="3860640"/>
          <a:ext cx="16556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88360" y="3860640"/>
                    <a:ext cx="1655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539640" y="4268880"/>
          <a:ext cx="165600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268880"/>
                    <a:ext cx="1656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17"/>
          <p:cNvGraphicFramePr/>
          <p:nvPr/>
        </p:nvGraphicFramePr>
        <p:xfrm>
          <a:off x="6732720" y="4221000"/>
          <a:ext cx="136836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422100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635280" y="5373720"/>
          <a:ext cx="129708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537372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B53-6B36-4F37-853B-627A703FBC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Метод  Гаус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шения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матрицей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мерност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и столбцом свободных члено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расширенную матриц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вести ее к ступенчатому виду с помощью элементарных преобразований стр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: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истема несовмес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делать вывод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643280" y="2781360"/>
          <a:ext cx="360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60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5724360" y="3573360"/>
          <a:ext cx="10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357336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9"/>
          <p:cNvGraphicFramePr/>
          <p:nvPr/>
        </p:nvGraphicFramePr>
        <p:xfrm>
          <a:off x="1692360" y="4724280"/>
          <a:ext cx="201600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724280"/>
                    <a:ext cx="2016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1"/>
          <p:cNvGraphicFramePr/>
          <p:nvPr/>
        </p:nvGraphicFramePr>
        <p:xfrm>
          <a:off x="1692360" y="5589720"/>
          <a:ext cx="20876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5589720"/>
                    <a:ext cx="208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7:30:53Z</dcterms:created>
  <dc:creator>к.502</dc:creator>
  <dc:description/>
  <dc:language>en-US</dc:language>
  <cp:lastModifiedBy>квм</cp:lastModifiedBy>
  <dcterms:modified xsi:type="dcterms:W3CDTF">2014-10-14T07:58:55Z</dcterms:modified>
  <cp:revision>6</cp:revision>
  <dc:subject/>
  <dc:title>Системы линейных алгебраических уравнений:</dc:title>
</cp:coreProperties>
</file>